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  <p:sldId id="310" r:id="rId87"/>
    <p:sldId id="311" r:id="rId88"/>
    <p:sldId id="312" r:id="rId89"/>
    <p:sldId id="313" r:id="rId90"/>
    <p:sldId id="314" r:id="rId91"/>
    <p:sldId id="315" r:id="rId92"/>
    <p:sldId id="316" r:id="rId93"/>
    <p:sldId id="317" r:id="rId94"/>
    <p:sldId id="318" r:id="rId95"/>
    <p:sldId id="319" r:id="rId96"/>
    <p:sldId id="320" r:id="rId97"/>
    <p:sldId id="321" r:id="rId98"/>
    <p:sldId id="322" r:id="rId99"/>
    <p:sldId id="323" r:id="rId100"/>
    <p:sldId id="324" r:id="rId101"/>
    <p:sldId id="325" r:id="rId102"/>
    <p:sldId id="326" r:id="rId103"/>
    <p:sldId id="327" r:id="rId104"/>
    <p:sldId id="328" r:id="rId105"/>
    <p:sldId id="329" r:id="rId106"/>
    <p:sldId id="330" r:id="rId107"/>
    <p:sldId id="331" r:id="rId108"/>
    <p:sldId id="332" r:id="rId109"/>
    <p:sldId id="333" r:id="rId110"/>
    <p:sldId id="334" r:id="rId111"/>
    <p:sldId id="335" r:id="rId112"/>
    <p:sldId id="336" r:id="rId113"/>
    <p:sldId id="337" r:id="rId114"/>
    <p:sldId id="338" r:id="rId115"/>
    <p:sldId id="339" r:id="rId116"/>
    <p:sldId id="340" r:id="rId117"/>
    <p:sldId id="341" r:id="rId118"/>
    <p:sldId id="342" r:id="rId119"/>
    <p:sldId id="343" r:id="rId120"/>
    <p:sldId id="344" r:id="rId121"/>
    <p:sldId id="345" r:id="rId122"/>
    <p:sldId id="346" r:id="rId123"/>
    <p:sldId id="347" r:id="rId124"/>
    <p:sldId id="348" r:id="rId125"/>
    <p:sldId id="349" r:id="rId126"/>
    <p:sldId id="350" r:id="rId127"/>
    <p:sldId id="351" r:id="rId128"/>
    <p:sldId id="352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slide" Target="slides/slide55.xml"/><Relationship Id="rId88" Type="http://schemas.openxmlformats.org/officeDocument/2006/relationships/slide" Target="slides/slide56.xml"/><Relationship Id="rId89" Type="http://schemas.openxmlformats.org/officeDocument/2006/relationships/slide" Target="slides/slide57.xml"/><Relationship Id="rId90" Type="http://schemas.openxmlformats.org/officeDocument/2006/relationships/slide" Target="slides/slide58.xml"/><Relationship Id="rId91" Type="http://schemas.openxmlformats.org/officeDocument/2006/relationships/slide" Target="slides/slide59.xml"/><Relationship Id="rId92" Type="http://schemas.openxmlformats.org/officeDocument/2006/relationships/slide" Target="slides/slide60.xml"/><Relationship Id="rId93" Type="http://schemas.openxmlformats.org/officeDocument/2006/relationships/slide" Target="slides/slide61.xml"/><Relationship Id="rId94" Type="http://schemas.openxmlformats.org/officeDocument/2006/relationships/slide" Target="slides/slide62.xml"/><Relationship Id="rId95" Type="http://schemas.openxmlformats.org/officeDocument/2006/relationships/slide" Target="slides/slide63.xml"/><Relationship Id="rId96" Type="http://schemas.openxmlformats.org/officeDocument/2006/relationships/slide" Target="slides/slide64.xml"/><Relationship Id="rId97" Type="http://schemas.openxmlformats.org/officeDocument/2006/relationships/slide" Target="slides/slide65.xml"/><Relationship Id="rId98" Type="http://schemas.openxmlformats.org/officeDocument/2006/relationships/slide" Target="slides/slide66.xml"/><Relationship Id="rId99" Type="http://schemas.openxmlformats.org/officeDocument/2006/relationships/slide" Target="slides/slide67.xml"/><Relationship Id="rId100" Type="http://schemas.openxmlformats.org/officeDocument/2006/relationships/slide" Target="slides/slide68.xml"/><Relationship Id="rId101" Type="http://schemas.openxmlformats.org/officeDocument/2006/relationships/slide" Target="slides/slide69.xml"/><Relationship Id="rId102" Type="http://schemas.openxmlformats.org/officeDocument/2006/relationships/slide" Target="slides/slide70.xml"/><Relationship Id="rId103" Type="http://schemas.openxmlformats.org/officeDocument/2006/relationships/slide" Target="slides/slide71.xml"/><Relationship Id="rId104" Type="http://schemas.openxmlformats.org/officeDocument/2006/relationships/slide" Target="slides/slide72.xml"/><Relationship Id="rId105" Type="http://schemas.openxmlformats.org/officeDocument/2006/relationships/slide" Target="slides/slide73.xml"/><Relationship Id="rId106" Type="http://schemas.openxmlformats.org/officeDocument/2006/relationships/slide" Target="slides/slide74.xml"/><Relationship Id="rId107" Type="http://schemas.openxmlformats.org/officeDocument/2006/relationships/slide" Target="slides/slide75.xml"/><Relationship Id="rId108" Type="http://schemas.openxmlformats.org/officeDocument/2006/relationships/slide" Target="slides/slide76.xml"/><Relationship Id="rId109" Type="http://schemas.openxmlformats.org/officeDocument/2006/relationships/slide" Target="slides/slide77.xml"/><Relationship Id="rId110" Type="http://schemas.openxmlformats.org/officeDocument/2006/relationships/slide" Target="slides/slide78.xml"/><Relationship Id="rId111" Type="http://schemas.openxmlformats.org/officeDocument/2006/relationships/slide" Target="slides/slide79.xml"/><Relationship Id="rId112" Type="http://schemas.openxmlformats.org/officeDocument/2006/relationships/slide" Target="slides/slide80.xml"/><Relationship Id="rId113" Type="http://schemas.openxmlformats.org/officeDocument/2006/relationships/slide" Target="slides/slide81.xml"/><Relationship Id="rId114" Type="http://schemas.openxmlformats.org/officeDocument/2006/relationships/slide" Target="slides/slide82.xml"/><Relationship Id="rId115" Type="http://schemas.openxmlformats.org/officeDocument/2006/relationships/slide" Target="slides/slide83.xml"/><Relationship Id="rId116" Type="http://schemas.openxmlformats.org/officeDocument/2006/relationships/slide" Target="slides/slide84.xml"/><Relationship Id="rId117" Type="http://schemas.openxmlformats.org/officeDocument/2006/relationships/slide" Target="slides/slide85.xml"/><Relationship Id="rId118" Type="http://schemas.openxmlformats.org/officeDocument/2006/relationships/slide" Target="slides/slide86.xml"/><Relationship Id="rId119" Type="http://schemas.openxmlformats.org/officeDocument/2006/relationships/slide" Target="slides/slide87.xml"/><Relationship Id="rId120" Type="http://schemas.openxmlformats.org/officeDocument/2006/relationships/slide" Target="slides/slide88.xml"/><Relationship Id="rId121" Type="http://schemas.openxmlformats.org/officeDocument/2006/relationships/slide" Target="slides/slide89.xml"/><Relationship Id="rId122" Type="http://schemas.openxmlformats.org/officeDocument/2006/relationships/slide" Target="slides/slide90.xml"/><Relationship Id="rId123" Type="http://schemas.openxmlformats.org/officeDocument/2006/relationships/slide" Target="slides/slide91.xml"/><Relationship Id="rId124" Type="http://schemas.openxmlformats.org/officeDocument/2006/relationships/slide" Target="slides/slide92.xml"/><Relationship Id="rId125" Type="http://schemas.openxmlformats.org/officeDocument/2006/relationships/slide" Target="slides/slide93.xml"/><Relationship Id="rId126" Type="http://schemas.openxmlformats.org/officeDocument/2006/relationships/slide" Target="slides/slide94.xml"/><Relationship Id="rId127" Type="http://schemas.openxmlformats.org/officeDocument/2006/relationships/slide" Target="slides/slide95.xml"/><Relationship Id="rId128" Type="http://schemas.openxmlformats.org/officeDocument/2006/relationships/slide" Target="slides/slide96.xml"/><Relationship Id="rId129" Type="http://schemas.openxmlformats.org/officeDocument/2006/relationships/slide" Target="slides/slide97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D63-4E39-48A2-BA72-12FD3112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FEA-93ED-4DE2-99A5-39496CF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0B9CB-D898-4DBC-A08B-E4F94F4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6295C-46D2-4526-8E04-37395DB3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6764-3B91-46DE-9E6B-186C20C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6E67-07BB-4337-B4FC-C250E6C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F806-7447-4635-A54E-1C115B0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F9FCF-EC26-4421-8D65-8887D42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79C9E-C76D-4A65-B1C9-1C209D2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94FE-0BB8-44EF-B584-72B78601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E231-E8DF-4515-B289-7DB1E2DA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CCE60-670E-40CF-AC8F-80C81C97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9C5-C67B-492F-944E-99C3881D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C008A-7859-4DF6-AA56-75E2EB6A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64A5D-27F5-4EB1-8AA6-3DE6CC2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1715F-463C-4F85-8319-EF189C16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16567-45D8-43AB-A5B3-C21CAB0E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A52C8-250F-4C35-8227-AD0974BD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B55FC-5A55-45B9-8C41-3A04F3C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5026C-17DA-49E5-93FC-24E8610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6593F-586A-467B-B955-09BD2ACA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E2551-C41C-40FA-A6B5-8AEA3519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1463A-5883-48F1-9B78-F2F1327D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184-493B-488B-97C0-35B41989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5B2E2-CC13-47DB-B98B-FA99A39D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EB320-1198-461C-B2A7-474F7B7E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017A6-38FE-4586-AD58-F41F92E6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5471B-13A5-4F07-8E12-357CB1FD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863B1-9127-4339-ABD1-71085A53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60B9A-0A64-44C2-870E-2714CD20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2749E-6435-4786-BCDF-C3764C9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8ECB5-A15B-4713-AE9E-9E9E249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30B7-6FA9-4363-8315-E7F32B6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66D8C-F785-4100-8BBD-ACF2AB4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32AB-A052-4BAF-AA40-A6699742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6AF3D-C60C-4B26-B0AE-7D6E5328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5D6D8-277B-439B-9982-95B29423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C002F-5D2C-4D75-BF3B-39C10DE2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39663-00EC-4967-AFBB-A54E163B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AFAD2-B337-4BFB-8F2F-C5E3D44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9BAE0-10B7-46A4-84FB-CB7D562D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E38D8-7DB1-4FCD-B2E6-A4123A33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62C23-07C4-4976-9431-816ADC39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19C59-4F1D-484B-8DB2-1A78C53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FFBC-E591-4251-88E2-D68506C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2A9-50BF-40FD-B35F-1177783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D0BA8-6BED-4650-9416-E674E5F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269C1-4D03-4E86-890B-DFBD4BF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F3EED-563C-42C8-AFA3-EAF6C8F6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D8459-03DF-41C3-839E-5283EFDA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1CC5F-07C6-47D4-82E2-AB5EEB54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420C3-534C-4F43-AD9F-33902740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A88B4-D381-42D4-80BB-3A2A1FD0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C5E4-C17C-4FAC-A6A1-1685AF7B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D87F4-FC23-4781-8634-804BD215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7D829-1A75-460C-917B-FA5A3DB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41C-9E92-4BC5-B199-6E70D21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C684B-2C06-4607-BE7B-C90786D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63F44-C4D2-495A-B4C3-215379D9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6A450-A0E2-4825-8683-00146E0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43295-EAE5-4DBB-B91D-EE39F0C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9607E-EABB-4641-87F8-C843A853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19F54-71B1-45C3-B6BB-E48E40C0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BDBCD-E27B-4EC2-89A8-781A05FA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5E291-23B4-4D3A-A781-7D4991C6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82365-CD6B-4A59-A61A-E980E3D5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72E45-F561-477D-9913-ADB3A91F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88C9-B3C8-465C-A350-52AC7729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1F74E-BBAA-4353-A371-EFB7CFAB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C336C-3885-43A0-8D34-93A149F5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51811-3D6F-45C5-B919-A48AF97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A5AE2-B964-458E-95B5-14AD8FE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F1B26-BC1C-47BB-A808-C983F5E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B35C6-7E19-4F07-B615-FC6F5A3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4D483-0C2B-4848-928A-F318160C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98CEB-99C5-45E7-A218-DDB3D809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8B4A9-25B0-4523-B1C6-220A8B8C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ED043-9892-4447-9F7D-4D77329A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9F1F-35A1-4AD3-AAC2-8019F2E7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C0578-5B09-46AD-80D4-1381AF13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527F6-31E7-4C3A-A80C-85BDD802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751D5-4011-48BE-93C5-3FE744FA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7E76C-EF4D-4BF6-80D5-5A21252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567B7-4182-4AAE-82E7-6A68EB53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8DEC3-16AE-4E33-8BEE-930787C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24672-19EB-4B41-8D66-3CEB555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75981-F313-4560-953F-C0AB944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7F9AC-24AC-4640-B07F-3F6376E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4ED00-5472-4ABE-B34C-DB5B0CDC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9966-8B75-40D8-91B7-93F6E80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6DC55-351D-4D2A-84CE-56CCC2E9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EDCFE-5B8E-4D14-AF46-1CDEAE03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1C6F9-4376-477F-B352-37D56612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D5033-2E85-4F77-96EF-EEDF7397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C5D00-7AD5-44D6-9CEF-6170FD7F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BBBA1-7D62-47EB-92A9-12B83B94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5CDA8-2B7F-4487-99CC-0088AB02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770BA-9D31-4EA2-BDB5-A9814A9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FDD75-E570-4D4F-ADD0-53E6F29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86C4C-7EB6-486F-819A-32C76C9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F407-5066-4CF7-84C9-587D86B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D5D27-4497-4B41-B0C1-1600B5A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B3DED-582A-4BC4-8BB2-0517C2CB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FF9E2-C26B-40CC-AD57-2B83767A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E21A8-A33B-42FF-ACC4-7C87B642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DB98A-B4E6-4426-8EEF-7BF231F4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55B6E-93FC-4AAA-B077-0E5A9AC2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CEF3F-FD0D-425B-9D12-1A6CE043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27B80-992F-4B97-A3EC-8F8BAC23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42F15-8007-4487-9B80-58557CDF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6ECD9A-9314-485C-9C7D-31B98F1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CDF-3C7E-466C-91CE-6ABDD04B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E26E-41F8-410A-A4F4-9BBB64A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000DF-3613-4663-915A-A5C4043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83C3C-CBB0-46B1-88DB-B6D3909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CB3FB-16BF-4848-9BD4-E1F1385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083F5-2E3C-4CDA-8846-F00537EE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894D4-B759-4EAF-9712-4601EBD0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9A437-AEF9-44AC-AFDB-C20D8A23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4625A-9F21-4B6C-9DB3-B42165C0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12966-A321-4A83-9CF0-AFCACF00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21AE3-FB1F-4FE8-92ED-3DB97267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62BF6-9126-4846-9C51-6DD19BF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944-250A-4DFC-990D-AA2E64CC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67CE5-AB89-4805-9DEA-0817E480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84B83-5B28-42E3-97A9-300FFCB5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D0D05-B51D-48E6-AFB2-287D978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4FD8A-1EF2-40AF-ACCB-52323F6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8276A-204F-43D3-8074-5CCACED7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D2907-B95C-4859-BAF8-66A04A38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278A5-DE5C-4A53-8FBB-621496A3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13B5C-6DB2-4F75-A104-E0E3ECFC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2BE8B-C0D6-470D-A768-C2AEBF27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FEB8E-E87D-45F3-B324-D49AEEB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1FD-93DF-4393-A155-51B3B470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EA8F6-1303-496F-9BC1-EB5E9623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72F39-4748-46DE-93F2-1B0F8F70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E5404-71E2-47BD-AABD-220D718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68439-2D13-4D30-AB03-DF58E23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DC97A-1687-4245-831C-F87963F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947595-86B8-4C06-8150-C6B7E833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7127E-656D-407D-A5DC-34ABB329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962C2-86AD-4AE2-B256-5457519B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07DF1-577C-47FD-9868-915774A4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22AB4-2AD9-45CF-89DC-EA43E261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49AB-C69D-44BD-81DC-C661BF6A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A4A75B-10BF-4730-9A53-161810D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98493-3B29-4D24-BB27-0E3DA707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D6933-37A4-4E5F-A785-0A2309F5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D3CA0-5859-404F-B3B3-A46885D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DD211-11D6-4B94-A0ED-D9AE7378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0AA2A-D4A3-432B-974C-86D0BFC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CA705-E5BA-4FF0-8B49-31015E7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704A3-6E9A-4EDA-8D33-8FEE724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0D773-9327-4F9F-AE92-BACB39DF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0316D-37B8-490C-BA0C-A5277E03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F0F5-5FB0-471F-8E61-8C32D30F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1AA84-8A11-41CA-AB2B-4CA3AD6D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D7DFA-1344-4E8F-8C22-C55DF251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D9EEC-232A-4BB5-AC33-C7DAA18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982EBB-CADC-4402-868F-E2246FD5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097EB-1F96-4A09-92C2-D4C4C13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00AE4-058F-4AD8-86B6-5FF05D5C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C6C90-114E-4483-B670-018FB0B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6857B-62FC-4543-ACC7-1E2A09C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9AF1C-853B-48DA-880F-A27A3146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740C4-E97A-4740-B60D-877480D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D4A9-7E32-4BBF-AED0-844FD14A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5833B-38D6-429C-8970-DDBBFB2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C79A1-0016-4973-ACAB-C8EA1D35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04974-3DF0-4E3E-973D-C3721F4F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714B8-7341-420F-86A6-235EE926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B6EE0-2C1C-4963-A79A-F8FDFC62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02C71B-54CD-4DB3-A1BD-B0AAF56C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B863DF-6F3B-4A40-9022-07EE9AAB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9E117-F517-4883-836F-2D2C299C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433A7-3B57-4977-9186-82F9211B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C62A9-81B0-45F7-9725-37F0758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0E5C-DDE9-453A-84D5-40753AAE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A5F7A4-6E86-4718-B654-EC5981B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F61B7-3220-4D76-8AC9-EAE0D89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F8BADC-B41D-4DA9-AB67-E6C3A9BE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91A61-0110-4C10-99FB-677F78E0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625C4-A739-4957-A2AB-F41E60EA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211EB1-764E-4566-A20E-62D3289A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D3EC70-2541-4BD1-A17A-7BAD9E00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C683CC-E928-4A62-942C-F8F81A2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0FA34-9969-4F4D-9CB5-198EF695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06DBDF-CC81-4D3C-9BC5-D96761A5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ED99-04E7-45A9-B0C6-F3691114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0B1E1-B929-4DCE-B7B5-6AA47A5B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A53238-6656-4078-8ACE-A1333C9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A3B600-1B3E-4FD1-A801-7DC99CA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CB376C-803A-4646-8D63-1C3E9655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D8463B-013C-412E-A05F-51F01DCD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573E8B-C9A6-48AE-8062-85EFBC6F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EEDC98-6C96-4388-8BEC-929D95AB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E1733F-F2DF-4938-8481-543F16CA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646137-4257-404B-A9DF-FB04FEA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D7C6B0-C11B-4463-81F2-12A4ADE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5053-D5B8-41A4-B294-96F0BC7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CFD61E-0F20-45D8-BEA7-9271CA36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BBB4CC-C433-4F9F-ABF1-5A5A5142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7F46B2-A32F-4C78-86F1-0B2ABEB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FEB5D-315A-4FAD-A0E1-B2EBB3D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2AD988-1B99-4DC7-A722-879747E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5F55EC-10A6-4B93-A78B-54E9CB38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E14D76-2105-482B-B26D-62BD3E6A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A41403-76F7-4364-B6A0-9ED0E286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24C4C8-B1B6-4F9C-A0BD-FFEC1C05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403604-8B76-402B-84A7-5CC754E3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3E9F-BD22-4AE2-A8E9-196BE344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379307-AE66-43D9-8E0F-64C5772B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12CFA9-FEE0-4941-AF95-6A1F04B8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A79BA1-6573-44C2-9D5B-BF6D2839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DE3637-1EAC-45B7-A36D-8B73D7C7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5834D5-0A7C-4350-BD70-2D4D5E6A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714788-422E-49DA-A88E-F683B4D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AF4993-E7EF-4E36-A3C8-C01FC30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184C86-3569-43E9-9E6A-B4F6316B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36F660-9E84-4F13-9BD5-68B2B68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614E9C-0182-4195-B988-F78EC70F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A14-714D-4133-9C7E-165B22B7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1207-D70D-49F6-9DA7-C974CFC0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168178-B146-40B4-BFED-AD6C7BC0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881845-E5DD-47A7-8AB6-6AEAC29C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AD23CD-E1A8-48E9-8435-B6CDB20E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331C91-9314-427A-B3AA-46DE2254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CC56D1-2D49-4B64-9BAD-28118707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1E7E6D-2F80-483B-93D7-6D60F47A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15125C-BEC5-4AFD-A8E6-A8FF3DAA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805001-7FEC-4787-B624-14C415F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2CF896-D690-4DC4-A3D7-FB683DC4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3E91FD-C35B-4FD9-8EB2-8495CCAA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2F7A-B4FB-43B8-B386-DFE7985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49B8AE-2718-4812-AB83-AE62217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1A37F0-93B1-4A07-A8A1-8DF08472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330D30-9713-4AFD-AD0A-11C274F8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990464-FB47-4749-A9BD-0C4A64AB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D56D98-392D-4EB0-969B-637AB069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A6F8C8-B2C1-42C9-9651-6E6F80E9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C1FB1C-7D93-4AAB-9838-183B44BE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EA5C4-0BC0-4AC7-B562-8259B141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39F91E-0ABC-4413-9F44-88B5EDD2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E6DD42-6B3B-47B8-9477-C2F336C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13C2-9727-4E26-80EE-747A029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4B50B9-33C5-4884-8F6E-EB22162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33F8CE-0F5A-4801-A0E4-2AD340A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CB0446-239C-4CB1-B1FA-8FADEEF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277120-E2FE-4EDD-8636-ABC1D5C7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B0897F-2C36-4158-ADBC-7965B9EA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F5CC8C-864F-4494-A489-D6680779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297874-6B33-42D5-9E42-4A17B405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758E00-B914-45D9-9807-F5F0A0DA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98A9C8-0B16-40B2-B8A5-0F3D758A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39F3C2-6EFF-4BA6-98F2-12D7CC5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655F-3E02-4B61-8FD1-82CE167C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2D312F-9CB8-4C87-AFBD-3F3FA620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7F7D5F-41CF-443D-BC41-AEBC7F0E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24CBD0-65E0-4D35-B4B8-B409835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E1D3C9-E77E-408F-85A2-4E64B4D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7107A0-C714-4ABF-92CB-370F8BB0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0C4E47-1C8D-4691-8299-1266C52B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4547CE-3F6F-40ED-A22D-56A81C73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59EAD0-6781-4B58-BAB0-49676B0A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C3A409-2531-4475-8691-214F565A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BE3921-7CC5-4CF1-A8DD-3F1FF99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03CE-8887-4810-A8BE-F0B3CD6F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46F047-5AC2-402D-9271-FDF035BD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9ECBEB-7EC1-45EE-B091-4FA16EC6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E0FE3D-74A3-4BB2-8B70-14E4D37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31432F-1E9C-47A4-BBF3-4EA4B90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C2D30E-3918-4E88-88B8-4C3C11DD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245515-A0E4-45A3-9843-E60A407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D97D81-0191-4056-B782-04BBCF1F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087773-9ED7-4E84-A373-ABB60292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6488AF-2073-4B95-8AD8-0FE3A627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D4C699-BE6D-4EC8-B7E5-29ED1095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9C79-DF7F-4368-A45E-34448A47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0FAF9E-BE39-4BC1-B180-4AB1BA30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70EDDB-4214-4657-9387-8B303E6E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44DF06-BBD7-4BFB-A57E-F93F6DD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BE30A0-7DEE-4B70-A579-49BF655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AB74CA-B38F-44DA-902F-34C566FE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A745EA-659E-4790-B352-193EA448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77E951-B84F-4AE6-9878-AA12B7E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64A323-8198-4032-A9E2-22AACBD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164306-AEC6-4000-AF61-C1CACE5E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2A3D1B-14FA-4578-83DB-1AB6CCD8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CBDF-C0A1-4146-9786-397D48C7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70E449-7665-44B0-8203-BB2CFA19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5D44D5-71F1-4A44-9758-31344322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E4B571-62FB-423B-B14D-44042CA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0C09E7-6C7E-4F54-8451-5A0F4172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645546-63F3-49E7-88AB-46F25BD3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3E2E55-BE8A-4CC1-B5B4-A85E4938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F3918D-ED68-4F30-A1E1-0371B105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D0AFD7-2EF9-4B1B-ADCD-9F1322E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E725E2-685B-47ED-B2D7-393CAC12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15B138-2A15-4132-A36C-D2C17377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BA2A-89DF-47F3-89A5-0324941F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AA6DA0-46D3-4DDB-834D-A14ACD0C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2141CB-DFC1-4E86-86DB-CA898C91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F2E1FE-A3F9-489A-AECD-56B117E5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ECA6-9409-4FA6-A85F-80F9E21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EBB99-3F5B-4C7C-B2CB-AEF7D9B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710-2DDC-4A6F-A854-0D3629A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73C6-67F3-49E3-AE59-080E2C44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A5A2-A878-467A-A2AA-5A28991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0B56-0F6A-42E5-8AD3-65A77E5F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B8AE-9B00-4442-B74B-27B70A0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9890-B31C-49F5-AEF7-62465B64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7561B-A62B-4CB8-A358-88F59E80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1F345-2F95-4D4A-90C4-82308CA0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0A0F-15C1-47D0-9851-1F8E9B2C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3C74-3479-4404-9DE2-A3051F1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370-525D-4A95-9332-C6DF4284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83C-A6A4-49D0-8736-ED3BB48D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2AA4-C29C-4144-8ABF-D2166226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7A90-D841-4C53-9D7A-D4EE7A9E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C01A-7A8A-472A-98EC-A27C02BE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C52AD-3452-4A09-BA36-C16DE13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D976-6311-4587-9611-F3726E3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2DF1-3E71-4FD4-961D-E49886C7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E62E2-0981-483D-B52E-F847249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5E40-2E8D-4D2B-9B4D-51DBA52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002AC-8172-4834-B1D9-68E035F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F23-361A-42CE-A752-76C1555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90AF-7020-4576-905B-87D6002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D9DEB-FCEC-4B15-9D2C-AD30345F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3EF30-AE50-44ED-9145-FB79322B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5E348-F7B0-434E-94CF-E2A56341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E215-92F4-4597-AE56-22C99851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A272-0D53-4064-B1E8-EBB2470E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07806-9FAB-47C4-A625-22995441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0A88-B848-46EA-AA95-AC101A5F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995DC-B372-4EBE-BACD-2551CB6D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8E523-4531-4251-A8E2-35A296AB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92E-465E-410B-B746-DB1914B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9EBEA-9556-4379-AB20-C1DC6EE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F0E5-B2E7-4DC7-A51E-1D86F8D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3CC2-03EE-4D73-B5D8-C87AB6C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1F71D-2A14-4764-BFFA-5CC62F33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06825-6319-4659-A1FC-2A1FCCD1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0B24-A8D4-4E31-9F71-74B3FD6A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6A82-C6E9-402E-8591-5B8F55B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4020D-87DB-4E53-9F28-395A9BAD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F38BC-A31E-4A1D-90D4-98250A18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190C-B749-48BB-A08E-05BDD3E8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E86-F5F1-4029-ADDD-58710BAD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7391E-B0F9-439E-8F44-14DB9842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5A4CD-F7D0-47B5-856D-6C4C1B6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B790-2699-4FC1-82C9-A5B1C76E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61B11-8BE2-4241-A99B-EA2111B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460E-A3A8-4BE4-B1F4-2F2E5D94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FB9F9-0F9D-4A15-98DC-0F8A40DE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A8297-7F3B-468D-B494-F7FDC9D7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60756-C3F4-4DEB-A724-BB242CE2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92309-1D8E-40E8-B509-DE6F313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42F7A-94CA-4041-ABFD-D7A242FA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B70B-69FE-4813-9EAC-63A5AB5862C1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B9A6-79AB-4428-9769-D0C6B5FEF9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C3CB-A85E-47D9-A65E-16734FB830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01FB-5BC7-48E8-88DC-42C531A1CC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F032-CCD2-400F-B2D3-ECA4D53F81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8F24-3510-4815-A92C-2C216B9C02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5145-421A-4FBE-92C0-F3E3125C09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CA6B-3FEE-4E1B-AB23-DEC981807C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5C24-EC75-4C94-93F7-5DAA2B8F1B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6DFF-A246-49FE-A5A0-F92F958766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67FD-9D8E-404E-AF8A-EB08351EFC9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934-9E13-48A2-A4F5-BC96A04DC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DDCC-5FE9-4906-82F2-03C4AC4E903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42AE-00BB-4EAE-BAB2-A17BADA8502D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948C-2889-4505-A046-659F0802A5D9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35B7-5487-4DB2-BB39-CD163E4D15F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ED4-A109-4681-9E69-86C44B69D34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8F37-E662-42BF-9468-5339A099073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EFDB-12D0-4303-B8C3-CCE6A1D5E17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7B36-EDD7-4145-A4B1-6F009342FFB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2A50-BB80-4802-B1B0-03A2CF6436A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8261-BD63-4CE2-B53F-D7BB15D4D62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38B7-FA23-4718-990D-BB10B3D8B49D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A7EF-E868-45DE-851A-CD011F0A9F0A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DFD-4B38-44B2-BC83-0D528DF8025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B599-0FFB-416D-8327-269482271904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616F-DEE9-4EF1-B811-0E376F4ADA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C79E-CF46-4B58-9DEB-864410815D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7281-01D5-4A0B-A80B-03A79EDA5F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11FB-F411-4AB1-93FE-A468C6494E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INTERSECT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9" name="Object 9"/>
          <p:cNvGraphicFramePr/>
          <p:nvPr/>
        </p:nvGraphicFramePr>
        <p:xfrm>
          <a:off x="762120" y="1981080"/>
          <a:ext cx="731520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31520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1" name="Text Box 11"/>
          <p:cNvSpPr/>
          <p:nvPr/>
        </p:nvSpPr>
        <p:spPr>
          <a:xfrm>
            <a:off x="3809880" y="3124080"/>
            <a:ext cx="165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akes Calc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C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2"/>
          <p:cNvSpPr/>
          <p:nvPr/>
        </p:nvSpPr>
        <p:spPr>
          <a:xfrm>
            <a:off x="3124080" y="5029200"/>
            <a:ext cx="2438640" cy="520560"/>
          </a:xfrm>
          <a:prstGeom prst="rect">
            <a:avLst/>
          </a:prstGeom>
          <a:solidFill>
            <a:srgbClr val="ffffff"/>
          </a:solidFill>
          <a:ln w="66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C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Ph)  =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4" name="Object 6"/>
          <p:cNvGraphicFramePr/>
          <p:nvPr/>
        </p:nvGraphicFramePr>
        <p:xfrm>
          <a:off x="638280" y="1981080"/>
          <a:ext cx="70578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981080"/>
                    <a:ext cx="70578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4"/>
          <p:cNvSpPr/>
          <p:nvPr/>
        </p:nvSpPr>
        <p:spPr>
          <a:xfrm>
            <a:off x="560520" y="4152960"/>
            <a:ext cx="790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akes Calc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Physics (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(C </a:t>
            </a:r>
            <a:r>
              <a:rPr b="1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2362320" y="3200400"/>
            <a:ext cx="4706640" cy="642600"/>
          </a:xfrm>
          <a:prstGeom prst="rect">
            <a:avLst/>
          </a:prstGeom>
          <a:solidFill>
            <a:srgbClr val="ffffff"/>
          </a:solidFill>
          <a:ln w="66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P(C </a:t>
            </a:r>
            <a:r>
              <a:rPr b="1" lang="el-GR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Ph)  =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0" name="Object 8"/>
          <p:cNvGraphicFramePr/>
          <p:nvPr/>
        </p:nvGraphicFramePr>
        <p:xfrm>
          <a:off x="392040" y="2286000"/>
          <a:ext cx="3551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286000"/>
                    <a:ext cx="3551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2" name="Text Box 9"/>
          <p:cNvSpPr/>
          <p:nvPr/>
        </p:nvSpPr>
        <p:spPr>
          <a:xfrm>
            <a:off x="1521000" y="4076640"/>
            <a:ext cx="354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1447920" y="3200400"/>
            <a:ext cx="31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16"/>
          <p:cNvGrpSpPr/>
          <p:nvPr/>
        </p:nvGrpSpPr>
        <p:grpSpPr>
          <a:xfrm>
            <a:off x="5583240" y="2362320"/>
            <a:ext cx="3560760" cy="3885840"/>
            <a:chOff x="5583240" y="2362320"/>
            <a:chExt cx="3560760" cy="3885840"/>
          </a:xfrm>
        </p:grpSpPr>
        <p:graphicFrame>
          <p:nvGraphicFramePr>
            <p:cNvPr id="1356" name="Object 8"/>
            <p:cNvGraphicFramePr/>
            <p:nvPr/>
          </p:nvGraphicFramePr>
          <p:xfrm>
            <a:off x="5583240" y="2362320"/>
            <a:ext cx="3314520" cy="38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3240" y="2362320"/>
                      <a:ext cx="3314520" cy="38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8" name="Text Box 9"/>
            <p:cNvSpPr/>
            <p:nvPr/>
          </p:nvSpPr>
          <p:spPr>
            <a:xfrm>
              <a:off x="6099120" y="3157200"/>
              <a:ext cx="304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00"/>
                  </a:solidFill>
                  <a:latin typeface="Comic Sans MS"/>
                </a:rPr>
                <a:t>P(Ph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Text Box 10"/>
          <p:cNvSpPr/>
          <p:nvPr/>
        </p:nvSpPr>
        <p:spPr>
          <a:xfrm>
            <a:off x="6019920" y="3962520"/>
            <a:ext cx="367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17"/>
          <p:cNvGrpSpPr/>
          <p:nvPr/>
        </p:nvGrpSpPr>
        <p:grpSpPr>
          <a:xfrm>
            <a:off x="304920" y="2286000"/>
            <a:ext cx="4398480" cy="3885840"/>
            <a:chOff x="304920" y="2286000"/>
            <a:chExt cx="4398480" cy="3885840"/>
          </a:xfrm>
        </p:grpSpPr>
        <p:graphicFrame>
          <p:nvGraphicFramePr>
            <p:cNvPr id="1361" name="Object 12"/>
            <p:cNvGraphicFramePr/>
            <p:nvPr/>
          </p:nvGraphicFramePr>
          <p:xfrm>
            <a:off x="304920" y="2286000"/>
            <a:ext cx="3571200" cy="38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2286000"/>
                      <a:ext cx="3571200" cy="38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3" name="Text Box 15"/>
            <p:cNvSpPr/>
            <p:nvPr/>
          </p:nvSpPr>
          <p:spPr>
            <a:xfrm>
              <a:off x="1222200" y="3235680"/>
              <a:ext cx="3481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400" spc="-1" strike="noStrike">
                  <a:solidFill>
                    <a:srgbClr val="000000"/>
                  </a:solidFill>
                  <a:latin typeface="Comic Sans MS"/>
                </a:rPr>
                <a:t>P(C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Text Box 11"/>
          <p:cNvSpPr/>
          <p:nvPr/>
        </p:nvSpPr>
        <p:spPr>
          <a:xfrm>
            <a:off x="4114800" y="30481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15521 -0.00811 E">
                                      <p:cBhvr>
                                        <p:cTn id="116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022E-016 L 0.10538 -0.00556 E">
                                      <p:cBhvr>
                                        <p:cTn id="118" dur="20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7" name="Object 3"/>
          <p:cNvGraphicFramePr/>
          <p:nvPr/>
        </p:nvGraphicFramePr>
        <p:xfrm>
          <a:off x="990720" y="1981080"/>
          <a:ext cx="662940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662940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9" name="Text Box 4"/>
          <p:cNvSpPr/>
          <p:nvPr/>
        </p:nvSpPr>
        <p:spPr>
          <a:xfrm>
            <a:off x="3352680" y="37339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P(C </a:t>
            </a:r>
            <a:r>
              <a:rPr b="1" lang="en-NZ" sz="4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1981080" y="28954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1" name="Object 2"/>
          <p:cNvGraphicFramePr/>
          <p:nvPr/>
        </p:nvGraphicFramePr>
        <p:xfrm>
          <a:off x="304920" y="1523880"/>
          <a:ext cx="822636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22636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3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4"/>
          <p:cNvSpPr/>
          <p:nvPr/>
        </p:nvSpPr>
        <p:spPr>
          <a:xfrm>
            <a:off x="1143000" y="3581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akes Calc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Physics (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(C </a:t>
            </a:r>
            <a:r>
              <a:rPr b="1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5"/>
          <p:cNvSpPr/>
          <p:nvPr/>
        </p:nvSpPr>
        <p:spPr>
          <a:xfrm>
            <a:off x="457200" y="2133720"/>
            <a:ext cx="8153280" cy="1477080"/>
          </a:xfrm>
          <a:prstGeom prst="rect">
            <a:avLst/>
          </a:prstGeom>
          <a:solidFill>
            <a:srgbClr val="ffffff"/>
          </a:solidFill>
          <a:ln w="66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So for any 2 events </a:t>
            </a:r>
            <a:r>
              <a:rPr b="1" i="1" lang="en-NZ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l-GR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B)  = P(A) + P(B) – P(A </a:t>
            </a: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0" y="4876920"/>
            <a:ext cx="9144000" cy="211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to find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un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a student chosen at random from this class taking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ither Calc or Physics (or both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w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d the individual probabiliti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f the events ‘takes Calc’ and ‘takes Physics’, the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btract the intersec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the overla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228600" y="274680"/>
            <a:ext cx="86868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TES:  For any 2 events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Content Placeholder 1"/>
          <p:cNvSpPr/>
          <p:nvPr/>
        </p:nvSpPr>
        <p:spPr>
          <a:xfrm>
            <a:off x="228600" y="914400"/>
            <a:ext cx="8686800" cy="1295280"/>
          </a:xfrm>
          <a:prstGeom prst="rect">
            <a:avLst/>
          </a:prstGeom>
          <a:solidFill>
            <a:srgbClr val="ccff33"/>
          </a:solidFill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rsect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BOTH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 =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–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Content Placeholder 1"/>
          <p:cNvSpPr/>
          <p:nvPr/>
        </p:nvSpPr>
        <p:spPr>
          <a:xfrm>
            <a:off x="228600" y="3863880"/>
            <a:ext cx="8686800" cy="12956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un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happe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or both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 =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–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520560" y="2271600"/>
            <a:ext cx="2133720" cy="1143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1" name="Object 9"/>
          <p:cNvGraphicFramePr/>
          <p:nvPr/>
        </p:nvGraphicFramePr>
        <p:xfrm>
          <a:off x="749160" y="2347920"/>
          <a:ext cx="167652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347920"/>
                    <a:ext cx="16765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Rectangle 3"/>
          <p:cNvSpPr/>
          <p:nvPr/>
        </p:nvSpPr>
        <p:spPr>
          <a:xfrm>
            <a:off x="522360" y="5248440"/>
            <a:ext cx="2133360" cy="1143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4" name="Object 2"/>
          <p:cNvGraphicFramePr/>
          <p:nvPr/>
        </p:nvGraphicFramePr>
        <p:xfrm>
          <a:off x="674640" y="5248440"/>
          <a:ext cx="176364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640" y="5248440"/>
                    <a:ext cx="1763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6" name="Text Box 5"/>
          <p:cNvSpPr/>
          <p:nvPr/>
        </p:nvSpPr>
        <p:spPr>
          <a:xfrm>
            <a:off x="2655720" y="5248440"/>
            <a:ext cx="641196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.g. to find the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io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of a student chosen at random from this class taking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either Calc or Physics (or both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, we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add the individual probabiliti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f the events ‘takes Calc’ and ‘takes Physics’, the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ubtract the intersectio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the overlap), so that we don’t count it tw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5"/>
          <p:cNvSpPr/>
          <p:nvPr/>
        </p:nvSpPr>
        <p:spPr>
          <a:xfrm>
            <a:off x="2654280" y="2244600"/>
            <a:ext cx="64119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.g. The probability that a randomly chosen member of this class takes both calculus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phys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0" name="Object 9"/>
          <p:cNvGraphicFramePr/>
          <p:nvPr/>
        </p:nvGraphicFramePr>
        <p:xfrm>
          <a:off x="762120" y="1981080"/>
          <a:ext cx="731520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31520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2" name="Content Placeholder 1"/>
          <p:cNvSpPr/>
          <p:nvPr/>
        </p:nvSpPr>
        <p:spPr>
          <a:xfrm>
            <a:off x="4265640" y="331920"/>
            <a:ext cx="4764240" cy="1028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Sigma pg. 6 – Ex. 1.2 (ol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pg. 105 – Ex. 6.02 (new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*HW: Handout (contingency 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3: Mutually exclusive &amp; independent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440" y="1980720"/>
            <a:ext cx="84582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tually exclusiv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. Notes on mutual exclusivity &amp;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2. Do Sigma (old) – Ex. 1.3 (pg.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Or Sigma (new) – Ex. 6.04 (pg. 1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3. HW: Probability assignment (due Thur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457200" y="2087640"/>
          <a:ext cx="8229600" cy="4065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`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h`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pic: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Introduction to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f Achievement Standard 906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straightforward problems involving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102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3"/>
          <p:cNvSpPr/>
          <p:nvPr/>
        </p:nvSpPr>
        <p:spPr>
          <a:xfrm>
            <a:off x="838080" y="16765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9" name="Object 11"/>
          <p:cNvGraphicFramePr/>
          <p:nvPr/>
        </p:nvGraphicFramePr>
        <p:xfrm>
          <a:off x="5334120" y="1828800"/>
          <a:ext cx="3044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4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1" name="Group 7"/>
          <p:cNvGrpSpPr/>
          <p:nvPr/>
        </p:nvGrpSpPr>
        <p:grpSpPr>
          <a:xfrm>
            <a:off x="1066680" y="1828800"/>
            <a:ext cx="3505320" cy="3276720"/>
            <a:chOff x="1066680" y="1828800"/>
            <a:chExt cx="3505320" cy="3276720"/>
          </a:xfrm>
        </p:grpSpPr>
        <p:graphicFrame>
          <p:nvGraphicFramePr>
            <p:cNvPr id="1402" name="Object 8"/>
            <p:cNvGraphicFramePr/>
            <p:nvPr/>
          </p:nvGraphicFramePr>
          <p:xfrm>
            <a:off x="1066680" y="1828800"/>
            <a:ext cx="2998800" cy="327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828800"/>
                      <a:ext cx="2998800" cy="32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4" name="Text Box 9"/>
            <p:cNvSpPr/>
            <p:nvPr/>
          </p:nvSpPr>
          <p:spPr>
            <a:xfrm>
              <a:off x="1685160" y="2485440"/>
              <a:ext cx="2310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Takes Geography(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10"/>
            <p:cNvSpPr/>
            <p:nvPr/>
          </p:nvSpPr>
          <p:spPr>
            <a:xfrm>
              <a:off x="1785240" y="3534120"/>
              <a:ext cx="2786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Text Box 17"/>
          <p:cNvSpPr/>
          <p:nvPr/>
        </p:nvSpPr>
        <p:spPr>
          <a:xfrm>
            <a:off x="5867280" y="2362320"/>
            <a:ext cx="2438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Takes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(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8"/>
          <p:cNvSpPr/>
          <p:nvPr/>
        </p:nvSpPr>
        <p:spPr>
          <a:xfrm>
            <a:off x="685800" y="4267080"/>
            <a:ext cx="8229600" cy="193788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re is NO OVERLAP.  If one happens, the other can’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9"/>
          <p:cNvSpPr/>
          <p:nvPr/>
        </p:nvSpPr>
        <p:spPr>
          <a:xfrm>
            <a:off x="1981080" y="6205680"/>
            <a:ext cx="388620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Geo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h)   =</a:t>
            </a:r>
            <a:r>
              <a:rPr b="1" lang="en-NZ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3"/>
          <p:cNvSpPr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Object 11"/>
          <p:cNvGraphicFramePr/>
          <p:nvPr/>
        </p:nvGraphicFramePr>
        <p:xfrm>
          <a:off x="5334120" y="1752480"/>
          <a:ext cx="3044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752480"/>
                    <a:ext cx="3044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3" name="Group 7"/>
          <p:cNvGrpSpPr/>
          <p:nvPr/>
        </p:nvGrpSpPr>
        <p:grpSpPr>
          <a:xfrm>
            <a:off x="1066680" y="1752480"/>
            <a:ext cx="3505320" cy="3276720"/>
            <a:chOff x="1066680" y="1752480"/>
            <a:chExt cx="3505320" cy="3276720"/>
          </a:xfrm>
        </p:grpSpPr>
        <p:graphicFrame>
          <p:nvGraphicFramePr>
            <p:cNvPr id="1414" name="Object 8"/>
            <p:cNvGraphicFramePr/>
            <p:nvPr/>
          </p:nvGraphicFramePr>
          <p:xfrm>
            <a:off x="1066680" y="1752480"/>
            <a:ext cx="2998800" cy="327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752480"/>
                      <a:ext cx="2998800" cy="32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6" name="Text Box 9"/>
            <p:cNvSpPr/>
            <p:nvPr/>
          </p:nvSpPr>
          <p:spPr>
            <a:xfrm>
              <a:off x="1685160" y="2409120"/>
              <a:ext cx="2310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Takes Geography(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10"/>
            <p:cNvSpPr/>
            <p:nvPr/>
          </p:nvSpPr>
          <p:spPr>
            <a:xfrm>
              <a:off x="1785240" y="3457800"/>
              <a:ext cx="2786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Text Box 17"/>
          <p:cNvSpPr/>
          <p:nvPr/>
        </p:nvSpPr>
        <p:spPr>
          <a:xfrm>
            <a:off x="5867280" y="2286000"/>
            <a:ext cx="2438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Takes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(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18"/>
          <p:cNvSpPr/>
          <p:nvPr/>
        </p:nvSpPr>
        <p:spPr>
          <a:xfrm>
            <a:off x="685800" y="4191120"/>
            <a:ext cx="8229600" cy="193788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re is NO OVERLAP.  If one happens, the other can’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19"/>
          <p:cNvSpPr/>
          <p:nvPr/>
        </p:nvSpPr>
        <p:spPr>
          <a:xfrm>
            <a:off x="2006640" y="6129360"/>
            <a:ext cx="5257800" cy="58140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Geo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h)   =</a:t>
            </a:r>
            <a:r>
              <a:rPr b="1" lang="en-NZ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NZ" sz="32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 Events (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wo events are Mutually Exclusive, it mean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f one happens, the other canno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So they cannot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bo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t STC in Year 13, you cannot take both Geography and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two events “Takes 13Geo” and “Takes 13Physics”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Test whether 2 events are mutually exclusive by finding whether or not there is any intersection between them P(A</a:t>
            </a:r>
            <a:r>
              <a:rPr b="1" lang="en-NZ" sz="2400" spc="-1" strike="noStrike">
                <a:solidFill>
                  <a:srgbClr val="0000ff"/>
                </a:solidFill>
                <a:latin typeface="Symbol"/>
                <a:ea typeface="Symbol"/>
              </a:rPr>
              <a:t>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B).  Can they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both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re mutually exclusive if and only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1"/>
          <p:cNvSpPr/>
          <p:nvPr/>
        </p:nvSpPr>
        <p:spPr>
          <a:xfrm>
            <a:off x="-17640" y="5486400"/>
            <a:ext cx="9144000" cy="9144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75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wo events are Independent, it mean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event that one has occurred does NOT alter the probability of the other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Examples of two events that are 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Examples of two events that are </a:t>
            </a:r>
            <a:r>
              <a:rPr b="1" i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 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test for independ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ny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re independent if and only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 =  P(A)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 ≠  P(A)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B), then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are NO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ork – finish for H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Do Sigma pg. 9 – Ex. 1.3 (old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g. 111 – Ex. 6.04 (new ver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re combined event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worksheet of past NCEA qs (involves unions, intersections, mutually exclusive events and th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‘neithe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’ event – using Venn Diagrams and Contingency Tab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4: Tree diagram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se tree diagrams to calculate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RTER:  The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“Neither”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o NuLake:  Tree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Pg. 115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120  - Q16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26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mplete for H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‘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Neither’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 txBox="1"/>
          <p:nvPr/>
        </p:nvSpPr>
        <p:spPr>
          <a:xfrm>
            <a:off x="0" y="22860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006 NCEA exam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wa asked 150 randomly chosen students what programmes they watched last night. 90 watch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hortland Stre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50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Z Id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30 had watched bo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probability that a randomly chosen student had watched neith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hortland Stre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Z Id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: Sample space and combined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85800" y="1981080"/>
            <a:ext cx="77724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Sample spac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Complementary eve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The intersection between 2 eve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The union between 2 eve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900" spc="-1" strike="noStrike">
                <a:solidFill>
                  <a:srgbClr val="000000"/>
                </a:solidFill>
                <a:latin typeface="Times New Roman"/>
              </a:rPr>
              <a:t>Use new edition of Sigma (photocopy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Do Sigma Ex. 6.02 (p105) – Venn Diagram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Ex. 6.03 (p108) Q2 &amp; 3 – Contingency Tab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Rectangle 3" descr=""/>
          <p:cNvPicPr/>
          <p:nvPr/>
        </p:nvPicPr>
        <p:blipFill>
          <a:blip r:embed="rId1"/>
          <a:stretch/>
        </p:blipFill>
        <p:spPr>
          <a:xfrm>
            <a:off x="-133200" y="189000"/>
            <a:ext cx="9283680" cy="6675480"/>
          </a:xfrm>
          <a:prstGeom prst="rect">
            <a:avLst/>
          </a:prstGeom>
          <a:ln w="0">
            <a:noFill/>
          </a:ln>
        </p:spPr>
      </p:pic>
      <p:sp>
        <p:nvSpPr>
          <p:cNvPr id="1437" name="TextBox 1"/>
          <p:cNvSpPr/>
          <p:nvPr/>
        </p:nvSpPr>
        <p:spPr>
          <a:xfrm>
            <a:off x="5562720" y="304920"/>
            <a:ext cx="3352680" cy="91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Tree Diagrams – Do NuLake pg. 115 </a:t>
            </a: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Text Box 10"/>
          <p:cNvSpPr/>
          <p:nvPr/>
        </p:nvSpPr>
        <p:spPr>
          <a:xfrm>
            <a:off x="533520" y="144792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Object 8"/>
          <p:cNvGraphicFramePr/>
          <p:nvPr/>
        </p:nvGraphicFramePr>
        <p:xfrm>
          <a:off x="1371600" y="1828800"/>
          <a:ext cx="6858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858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Text Box 5"/>
          <p:cNvSpPr/>
          <p:nvPr/>
        </p:nvSpPr>
        <p:spPr>
          <a:xfrm>
            <a:off x="3733920" y="33354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6"/>
          <p:cNvSpPr/>
          <p:nvPr/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The ‘NEITHER’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11"/>
          <p:cNvSpPr/>
          <p:nvPr/>
        </p:nvSpPr>
        <p:spPr>
          <a:xfrm>
            <a:off x="0" y="4211640"/>
            <a:ext cx="9144000" cy="3146040"/>
          </a:xfrm>
          <a:prstGeom prst="rect">
            <a:avLst/>
          </a:prstGeom>
          <a:solidFill>
            <a:srgbClr val="ccffff"/>
          </a:solidFill>
          <a:ln w="66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6094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`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∩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`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Text Box 10"/>
          <p:cNvSpPr/>
          <p:nvPr/>
        </p:nvSpPr>
        <p:spPr>
          <a:xfrm>
            <a:off x="533520" y="144792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6" name="Object 8"/>
          <p:cNvGraphicFramePr/>
          <p:nvPr/>
        </p:nvGraphicFramePr>
        <p:xfrm>
          <a:off x="1371600" y="1828800"/>
          <a:ext cx="6858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858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8" name="Text Box 5"/>
          <p:cNvSpPr/>
          <p:nvPr/>
        </p:nvSpPr>
        <p:spPr>
          <a:xfrm>
            <a:off x="3733920" y="33354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6"/>
          <p:cNvSpPr/>
          <p:nvPr/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The ‘NEITHER’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11"/>
          <p:cNvSpPr/>
          <p:nvPr/>
        </p:nvSpPr>
        <p:spPr>
          <a:xfrm>
            <a:off x="0" y="4211640"/>
            <a:ext cx="9144000" cy="2643480"/>
          </a:xfrm>
          <a:prstGeom prst="rect">
            <a:avLst/>
          </a:prstGeom>
          <a:solidFill>
            <a:srgbClr val="ccffff"/>
          </a:solidFill>
          <a:ln w="66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Nor”  =  1- “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Neither A nor B)    =   1 – P(A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s can be easily observed on a contingency table (see previous examp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Neither A nor B) is written as P(A`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`), 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esn’t occur  AND 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n’t occ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5"/>
          <p:cNvSpPr/>
          <p:nvPr/>
        </p:nvSpPr>
        <p:spPr>
          <a:xfrm>
            <a:off x="6094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`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∩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`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1748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5: Tree diagram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304560" y="1218960"/>
            <a:ext cx="883908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ractice and develop more confidence with using Tree Diagrams to solve problems involving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o Sigma pg. 12 – Ex. 1.4 (old version): Q1-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or, in new edition, pg. 116 – Ex .6.0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 u="sng">
                <a:solidFill>
                  <a:srgbClr val="000000"/>
                </a:solidFill>
                <a:uFillTx/>
                <a:latin typeface="Times New Roman"/>
              </a:rPr>
              <a:t>* Extension people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Do new edition – pg. 116 – Ex. 6.05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Do Q3</a:t>
            </a:r>
            <a:r>
              <a:rPr b="0" lang="en-N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14, 15(</a:t>
            </a:r>
            <a:r>
              <a:rPr b="0" i="1" lang="en-NZ" sz="2900" spc="-1" strike="noStrike">
                <a:solidFill>
                  <a:srgbClr val="000000"/>
                </a:solidFill>
                <a:latin typeface="Times New Roman"/>
              </a:rPr>
              <a:t>Exc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), then read </a:t>
            </a:r>
            <a:r>
              <a:rPr b="0" i="1" lang="en-NZ" sz="2900" spc="-1" strike="noStrike">
                <a:solidFill>
                  <a:srgbClr val="000000"/>
                </a:solidFill>
                <a:latin typeface="Times New Roman"/>
              </a:rPr>
              <a:t>infinite probabilities 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example at bottom of p115, then do Q16-20 (all </a:t>
            </a:r>
            <a:r>
              <a:rPr b="0" i="1" lang="en-NZ" sz="2900" spc="-1" strike="noStrike">
                <a:solidFill>
                  <a:srgbClr val="000000"/>
                </a:solidFill>
                <a:latin typeface="Times New Roman"/>
              </a:rPr>
              <a:t>Exc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6: Conditional probability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685800" y="1981080"/>
            <a:ext cx="77724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tro to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ntroduction to Conditional Probability and its notation and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Link to Tree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 NuLake pg. 123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Or Sigma Ex. 6.01, 6.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0" y="1676520"/>
            <a:ext cx="91440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onditional probability means the probability of a particular event occurr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GIVE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that some other even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as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99"/>
                </a:solidFill>
                <a:latin typeface="Comic Sans MS"/>
              </a:rPr>
              <a:t>E.g. the probability that a randomly chosen person in this class has a car, GIVEN that we </a:t>
            </a:r>
            <a:r>
              <a:rPr b="0" i="1" lang="en-NZ" sz="2000" spc="-1" strike="noStrike">
                <a:solidFill>
                  <a:srgbClr val="000099"/>
                </a:solidFill>
                <a:latin typeface="Comic Sans MS"/>
              </a:rPr>
              <a:t>know</a:t>
            </a:r>
            <a:r>
              <a:rPr b="0" lang="en-NZ" sz="2000" spc="-1" strike="noStrike">
                <a:solidFill>
                  <a:srgbClr val="000099"/>
                </a:solidFill>
                <a:latin typeface="Comic Sans MS"/>
              </a:rPr>
              <a:t>  he has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nce w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a particular event has occurred ou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ample space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possibilities is reduced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probability that a randomly selected member of this class has a car GIVEN that he has a job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=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Number standing up with hands up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Total number standing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probability that a randomly selected member of this class has a car GIVEN that he has a job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=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Number standing up with hands up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=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( 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?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Total number standing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 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(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?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probability that a randomly selected member of this class has a car GIVEN that he has a job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=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Number standing up with hands up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=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(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Job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ar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Total number standing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1"/>
          <p:cNvSpPr/>
          <p:nvPr/>
        </p:nvSpPr>
        <p:spPr>
          <a:xfrm>
            <a:off x="5562720" y="4191120"/>
            <a:ext cx="327636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how this information on a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contingency tabl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6"/>
          <p:cNvSpPr/>
          <p:nvPr/>
        </p:nvSpPr>
        <p:spPr>
          <a:xfrm>
            <a:off x="149400" y="2819520"/>
            <a:ext cx="8839080" cy="459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HAVE A GO:   Do NuLake pg. 123 - JUST Question 29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Basic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ample spac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set of all possible outcomes of an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Ev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any subset of sampl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 A video game involves a player having 3 shots at a target.  If he gets 2 or more hits, he gets an extra bonus shot, and if after that he has 3 or more hits, he gets a final sh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how the possible outcomes on 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ree diagram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ist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ample spac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Text Box 9"/>
          <p:cNvSpPr/>
          <p:nvPr/>
        </p:nvSpPr>
        <p:spPr>
          <a:xfrm>
            <a:off x="380880" y="1447920"/>
            <a:ext cx="8534520" cy="4957920"/>
          </a:xfrm>
          <a:prstGeom prst="rect">
            <a:avLst/>
          </a:prstGeom>
          <a:solidFill>
            <a:srgbClr val="ffffff"/>
          </a:solidFill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Object 3"/>
          <p:cNvGraphicFramePr/>
          <p:nvPr/>
        </p:nvGraphicFramePr>
        <p:xfrm>
          <a:off x="1066680" y="2133720"/>
          <a:ext cx="67820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67820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Text Box 6"/>
          <p:cNvSpPr/>
          <p:nvPr/>
        </p:nvSpPr>
        <p:spPr>
          <a:xfrm>
            <a:off x="1905120" y="335268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`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7"/>
          <p:cNvSpPr/>
          <p:nvPr/>
        </p:nvSpPr>
        <p:spPr>
          <a:xfrm>
            <a:off x="5486400" y="34290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`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8"/>
          <p:cNvSpPr/>
          <p:nvPr/>
        </p:nvSpPr>
        <p:spPr>
          <a:xfrm>
            <a:off x="3505320" y="380988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8088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’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8"/>
          <p:cNvSpPr/>
          <p:nvPr/>
        </p:nvSpPr>
        <p:spPr>
          <a:xfrm>
            <a:off x="380880" y="1447920"/>
            <a:ext cx="8534520" cy="4957920"/>
          </a:xfrm>
          <a:prstGeom prst="rect">
            <a:avLst/>
          </a:prstGeom>
          <a:solidFill>
            <a:srgbClr val="ffffff"/>
          </a:solidFill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7" name="Object 7"/>
          <p:cNvGraphicFramePr/>
          <p:nvPr/>
        </p:nvGraphicFramePr>
        <p:xfrm>
          <a:off x="1066680" y="1752480"/>
          <a:ext cx="45198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4519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9" name="Text Box 4"/>
          <p:cNvSpPr/>
          <p:nvPr/>
        </p:nvSpPr>
        <p:spPr>
          <a:xfrm>
            <a:off x="1752480" y="335268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`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6"/>
          <p:cNvSpPr/>
          <p:nvPr/>
        </p:nvSpPr>
        <p:spPr>
          <a:xfrm>
            <a:off x="3886200" y="3352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9"/>
          <p:cNvSpPr/>
          <p:nvPr/>
        </p:nvSpPr>
        <p:spPr>
          <a:xfrm>
            <a:off x="5943600" y="18288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P(A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3" name="Object 10"/>
          <p:cNvGraphicFramePr/>
          <p:nvPr/>
        </p:nvGraphicFramePr>
        <p:xfrm>
          <a:off x="1122480" y="1676520"/>
          <a:ext cx="42307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1676520"/>
                    <a:ext cx="4230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5" name="Text Box 4"/>
          <p:cNvSpPr/>
          <p:nvPr/>
        </p:nvSpPr>
        <p:spPr>
          <a:xfrm>
            <a:off x="1981080" y="23623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e KNOW Event A has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7" name="Object 2"/>
          <p:cNvGraphicFramePr/>
          <p:nvPr/>
        </p:nvGraphicFramePr>
        <p:xfrm>
          <a:off x="1447920" y="2332080"/>
          <a:ext cx="27543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32080"/>
                    <a:ext cx="27543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9" name="Object 6"/>
          <p:cNvGraphicFramePr/>
          <p:nvPr/>
        </p:nvGraphicFramePr>
        <p:xfrm>
          <a:off x="1371600" y="1600200"/>
          <a:ext cx="396252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00200"/>
                    <a:ext cx="39625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Text Box 5"/>
          <p:cNvSpPr/>
          <p:nvPr/>
        </p:nvSpPr>
        <p:spPr>
          <a:xfrm>
            <a:off x="4114800" y="3733920"/>
            <a:ext cx="1400040" cy="459720"/>
          </a:xfrm>
          <a:prstGeom prst="rect">
            <a:avLst/>
          </a:prstGeom>
          <a:solidFill>
            <a:srgbClr val="ccff33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4"/>
          <p:cNvSpPr/>
          <p:nvPr/>
        </p:nvSpPr>
        <p:spPr>
          <a:xfrm>
            <a:off x="1981080" y="228600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e KNOW Event A has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4" name="Object 2"/>
          <p:cNvGraphicFramePr/>
          <p:nvPr/>
        </p:nvGraphicFramePr>
        <p:xfrm>
          <a:off x="457200" y="1951200"/>
          <a:ext cx="2436840" cy="26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51200"/>
                    <a:ext cx="2436840" cy="26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Object 6"/>
          <p:cNvGraphicFramePr/>
          <p:nvPr/>
        </p:nvGraphicFramePr>
        <p:xfrm>
          <a:off x="0" y="1219320"/>
          <a:ext cx="38862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19320"/>
                    <a:ext cx="3886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8" name="Text Box 5"/>
          <p:cNvSpPr/>
          <p:nvPr/>
        </p:nvSpPr>
        <p:spPr>
          <a:xfrm>
            <a:off x="2590920" y="3048120"/>
            <a:ext cx="1314360" cy="414000"/>
          </a:xfrm>
          <a:prstGeom prst="rect">
            <a:avLst/>
          </a:prstGeom>
          <a:solidFill>
            <a:srgbClr val="ccff33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r>
              <a:rPr b="1" lang="en-NZ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990720" y="1752480"/>
            <a:ext cx="19620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We KNOW Event A has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4191120" y="1295280"/>
            <a:ext cx="49528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conditional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ccurs if we already know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s happened is written as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P(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ᅵ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e say “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 probability of B,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given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5"/>
          <p:cNvSpPr/>
          <p:nvPr/>
        </p:nvSpPr>
        <p:spPr>
          <a:xfrm>
            <a:off x="4495680" y="4267080"/>
            <a:ext cx="441972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3"/>
          <p:cNvSpPr/>
          <p:nvPr/>
        </p:nvSpPr>
        <p:spPr>
          <a:xfrm>
            <a:off x="0" y="525780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4"/>
          <p:cNvSpPr/>
          <p:nvPr/>
        </p:nvSpPr>
        <p:spPr>
          <a:xfrm>
            <a:off x="450720" y="5796000"/>
            <a:ext cx="8382240" cy="7038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omething to pon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f A and B ar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then P(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) = P(___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6"/>
          <p:cNvSpPr/>
          <p:nvPr/>
        </p:nvSpPr>
        <p:spPr>
          <a:xfrm>
            <a:off x="609480" y="341280"/>
            <a:ext cx="8382240" cy="119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HAVE A GO:   Do NuLake pg. 124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You MUST do: Q30-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* Extension: Q4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7: Conditional probability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33520" y="19807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atch youtube clip on conditional probability: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http://www.youtube.com/watch?v=4PwnvqGE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ink with tree-diagrams.  Look at one together.  Which probabilities on the diagram a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condition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robabi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ractice solving problems involving conditional probability using Venn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Go over HW qs from NuLake &amp; finish these off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2. Faster people move on to NuLake pages 130</a:t>
            </a:r>
            <a:r>
              <a:rPr b="0" lang="en-N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134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8 </a:t>
            </a:r>
            <a:r>
              <a:rPr b="0" i="1" lang="en-NZ" sz="4400" spc="-1" strike="noStrike">
                <a:solidFill>
                  <a:srgbClr val="000000"/>
                </a:solidFill>
                <a:latin typeface="Times New Roman"/>
              </a:rPr>
              <a:t>(if time)</a:t>
            </a: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: Conditional probability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533520" y="1981080"/>
            <a:ext cx="8229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roblem-solving:  The Base Rate Fell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Last lesson to practice conditional probability problems and sort out any difficul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.) Finish NuLake pages 130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2.) Sigma (new): Pg. 176 – Ex. 9.04  +  answer qs for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Unlawful Activit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investig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xtension: 2010 NCEA exam (AS90643) – final question (hard Venn diagram probl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A taxi is involved in a hit-and-run acc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pulation:  Year 13 SAM class at STC</a:t>
            </a:r>
            <a:br>
              <a:rPr sz="3200"/>
            </a:b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RAW ON BOARD ALONGSIDE PROJECT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9" name=""/>
          <p:cNvGraphicFramePr/>
          <p:nvPr/>
        </p:nvGraphicFramePr>
        <p:xfrm>
          <a:off x="457200" y="1981080"/>
          <a:ext cx="8229600" cy="3627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Calcu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Cal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`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physics 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`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A taxi is involved in a hit-and-run accident.  One witness says it was a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court tests this witness’s ability to distinguish between </a:t>
            </a:r>
            <a:r>
              <a:rPr b="1" lang="en-NZ" sz="2400" spc="-1" strike="noStrike">
                <a:solidFill>
                  <a:srgbClr val="0000cc"/>
                </a:solidFill>
                <a:latin typeface="Comic Sans MS"/>
              </a:rPr>
              <a:t>Blue</a:t>
            </a:r>
            <a:r>
              <a:rPr b="0" lang="en-NZ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NZ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bs under identical conditions and concludes that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witness is righ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80%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of the tim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Question: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What is the probability that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the taxi was a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Lawyers, judges, doctors and even maths teachers have claimed that the answer is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et this i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correc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A taxi is involved in a hit-and-run accident.  One witness says it was a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court tests this witness’s ability to distinguish between </a:t>
            </a:r>
            <a:r>
              <a:rPr b="1" lang="en-NZ" sz="2400" spc="-1" strike="noStrike">
                <a:solidFill>
                  <a:srgbClr val="0000cc"/>
                </a:solidFill>
                <a:latin typeface="Comic Sans MS"/>
              </a:rPr>
              <a:t>Blue</a:t>
            </a:r>
            <a:r>
              <a:rPr b="0" lang="en-NZ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NZ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bs under identical conditions and concludes that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witness is righ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80%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of the tim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Question: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What is the probability that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the taxi was a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Lawyers, judges, doctors and even maths teachers have claimed that the answer is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et this i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correc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Can you calculate the true prob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can you explai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80% is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5"/>
          <p:cNvSpPr/>
          <p:nvPr/>
        </p:nvSpPr>
        <p:spPr>
          <a:xfrm>
            <a:off x="1371600" y="4572000"/>
            <a:ext cx="7543800" cy="642600"/>
          </a:xfrm>
          <a:prstGeom prst="rect">
            <a:avLst/>
          </a:prstGeom>
          <a:solidFill>
            <a:srgbClr val="9ed3d7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HINT: Draw a probability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6"/>
          <p:cNvSpPr/>
          <p:nvPr/>
        </p:nvSpPr>
        <p:spPr>
          <a:xfrm>
            <a:off x="2057400" y="4572000"/>
            <a:ext cx="6019920" cy="6426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POILER WARNING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4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OK.  The answer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8"/>
          <p:cNvSpPr/>
          <p:nvPr/>
        </p:nvSpPr>
        <p:spPr>
          <a:xfrm>
            <a:off x="5486400" y="4495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3077(4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9"/>
          <p:cNvSpPr/>
          <p:nvPr/>
        </p:nvSpPr>
        <p:spPr>
          <a:xfrm>
            <a:off x="152280" y="5029200"/>
            <a:ext cx="861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o it’s actually more likely that the witness got it wrong and the taxi was bl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Use a probability tree or otherwise to show that this is the correct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10"/>
          <p:cNvSpPr/>
          <p:nvPr/>
        </p:nvSpPr>
        <p:spPr>
          <a:xfrm>
            <a:off x="685800" y="838080"/>
            <a:ext cx="769608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(old version) pg. 19 – Ex. 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Or new version pg. 176 – Ex. 9.04 (M&amp;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8" dur="2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Extra for experts lesson – Bayes’ Theor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ractice solving problems involving conditional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oring Conditional Probability – swine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one stage last year, Ministry of Health figures indicate that 2% of Christchurch high school students had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 particular medical test could correctly identify whether a patient had Swine Flu 90% of the ti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oring Conditional Probability – swine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one stage last year, Ministry of Health figures indicate that 2% of Christchurch high school students had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the time, health clinics conducted a test that accurately detected the virus for 90% of people with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However the test also indicated the disease for 12.5% of people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without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it (the false positive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Draw a tree diagram showing 2 variab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a randomly chosen high school student actually has swine flu (F) or not (F`), and for each of these scenario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the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test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says that they have it (T) or not (T`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one stage last year, Ministry of Health figures indicate that 2% of Christchurch high school students had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 particular medical test could correctly identify whether a patient had Swine Flu 90% of the time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is means that 90% of people with Swine Flu would test positive for it, while 90% of people without Swine Flu would test negative fo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Draw a tree diagram showing 2 variab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a randomly chosen high school student actually has swine flu (F) or not (F`), and for each of these scenario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the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test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says that they have it (T) or not (T`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5"/>
          <p:cNvSpPr/>
          <p:nvPr/>
        </p:nvSpPr>
        <p:spPr>
          <a:xfrm>
            <a:off x="3886200" y="22096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enn Diagrams – represent events within a Sample Space 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2" name="Object 7"/>
          <p:cNvGraphicFramePr/>
          <p:nvPr/>
        </p:nvGraphicFramePr>
        <p:xfrm>
          <a:off x="1050840" y="1752480"/>
          <a:ext cx="38401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752480"/>
                    <a:ext cx="38401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4" name="Rectangle 6"/>
          <p:cNvSpPr/>
          <p:nvPr/>
        </p:nvSpPr>
        <p:spPr>
          <a:xfrm>
            <a:off x="2819520" y="2362320"/>
            <a:ext cx="35049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0"/>
          <p:cNvSpPr/>
          <p:nvPr/>
        </p:nvSpPr>
        <p:spPr>
          <a:xfrm>
            <a:off x="1676520" y="3124080"/>
            <a:ext cx="244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akes Ca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C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"/>
          <p:cNvSpPr/>
          <p:nvPr/>
        </p:nvSpPr>
        <p:spPr>
          <a:xfrm>
            <a:off x="1523880" y="1752480"/>
            <a:ext cx="6553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ample Space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– the set of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ll possible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ll possible outcomes – probabilities add to 1 (i.e. 10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10"/>
          <p:cNvSpPr/>
          <p:nvPr/>
        </p:nvSpPr>
        <p:spPr>
          <a:xfrm>
            <a:off x="5486400" y="2362320"/>
            <a:ext cx="274320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oes NOT take ca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C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1- p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"/>
          <p:cNvSpPr/>
          <p:nvPr/>
        </p:nvSpPr>
        <p:spPr>
          <a:xfrm>
            <a:off x="2895480" y="304920"/>
            <a:ext cx="624852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then substitute this into the conditional probability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5"/>
          <p:cNvSpPr/>
          <p:nvPr/>
        </p:nvSpPr>
        <p:spPr>
          <a:xfrm>
            <a:off x="3886200" y="17524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3"/>
          <p:cNvSpPr/>
          <p:nvPr/>
        </p:nvSpPr>
        <p:spPr>
          <a:xfrm>
            <a:off x="2895480" y="304920"/>
            <a:ext cx="624852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then substitute this into the conditional probability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886200" y="19810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3"/>
          <p:cNvSpPr/>
          <p:nvPr/>
        </p:nvSpPr>
        <p:spPr>
          <a:xfrm>
            <a:off x="2895480" y="304920"/>
            <a:ext cx="624852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then substitute this into the conditional probability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)             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3809880" y="19810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2006 Scholarsh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ll incoming strawberries for making yoghurt are checked for defects.  An automatic scanner is used, followed by a visual inspection.  The scanner removes 90% of defective strawberries and the visual inspection process removes 70% of any remaining defective strawberries.  From previous records, the company knows that 4% of incoming strawberries are de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a)   Calculate the percentage of defective strawberri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removed by the visual inspec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   Calculate the probability that a strawberry that was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 be defective had been removed by the sc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    If the scanner is correct 90% of the time, what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robability that a strawberry registered as ‘defective’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 scanner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ctually de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2006 Scholarsh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28600" y="1142640"/>
            <a:ext cx="8686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All incoming strawberries for making yoghurt are checked for defects.  An automatic scanner is used, followed by a visual inspection. 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9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strawberries and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ual inspection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proces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7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any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aining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strawberries.  From previous records, the company know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4% of incoming strawberries are 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(a)    Calculate the percentag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strawberri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are removed by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ual inspection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NSWER to (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f strawberries are removed by visual insp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20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2006 Scholarsh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28600" y="1066320"/>
            <a:ext cx="8686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All incoming strawberries for making yoghurt are checked for defects.  An automatic scanner is used, followed by a visual inspection. 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9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strawberries and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ual inspection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proces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7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any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aining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strawberries.  From previous records, the company know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4% of incoming strawberries are 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(b)   Calculate the probability that a strawberry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und to be 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had bee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oved by the sc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NSWER to (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P(Removed by scanner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nd defective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   0.928  (3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2000"/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lementary Events  </a:t>
            </a: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(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0" y="1143000"/>
            <a:ext cx="9144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For any event “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: Event A occurs.     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A’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: The Complement of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Event A does NOT occ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where  P(A’) = 1 – 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we select a person at random from this class, the 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     “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This  class member takes Calculus” ,  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 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“This class member does </a:t>
            </a:r>
            <a:r>
              <a:rPr b="0" i="1" lang="en-NZ" sz="2000" spc="-1" strike="noStrike">
                <a:solidFill>
                  <a:srgbClr val="ff0000"/>
                </a:solidFill>
                <a:latin typeface="Comic Sans MS"/>
              </a:rPr>
              <a:t>NOT  t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ake Calculus”,  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C`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lem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(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’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    =  1 – P(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1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vent A occurs 65% of the time, and Event “B”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75% of the tim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t least 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“A” or “B”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Venn Diagram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mutually exclusive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both A and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statistically independent?  Use statistical reasoning to justify your answer.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ad  Sigma (new) pg. 1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 occurs 6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 and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7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of “A” or “B”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ccur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and a Venn Diagram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mutually exclusive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both A and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statistically independent?  Use statistical reasoning to justify your answer.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ad  Sigma (new) pg. 1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 occurs 6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 and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7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of “A” or “B”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ccur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304920" y="2971800"/>
          <a:ext cx="8229600" cy="3803760"/>
        </p:xfrm>
        <a:graphic>
          <a:graphicData uri="http://schemas.openxmlformats.org/drawingml/2006/table">
            <a:tbl>
              <a:tblPr/>
              <a:tblGrid>
                <a:gridCol w="2209680"/>
                <a:gridCol w="1905120"/>
                <a:gridCol w="2057400"/>
                <a:gridCol w="2057400"/>
              </a:tblGrid>
              <a:tr h="116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ccu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`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ccu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`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EVENTS “A” and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3"/>
          <p:cNvGrpSpPr/>
          <p:nvPr/>
        </p:nvGrpSpPr>
        <p:grpSpPr>
          <a:xfrm>
            <a:off x="304920" y="1676520"/>
            <a:ext cx="5409720" cy="4876200"/>
            <a:chOff x="304920" y="1676520"/>
            <a:chExt cx="5409720" cy="4876200"/>
          </a:xfrm>
        </p:grpSpPr>
        <p:graphicFrame>
          <p:nvGraphicFramePr>
            <p:cNvPr id="1578" name="Object 4"/>
            <p:cNvGraphicFramePr/>
            <p:nvPr/>
          </p:nvGraphicFramePr>
          <p:xfrm>
            <a:off x="304920" y="167652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7652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0" name="Text Box 5"/>
            <p:cNvSpPr/>
            <p:nvPr/>
          </p:nvSpPr>
          <p:spPr>
            <a:xfrm>
              <a:off x="1483200" y="416232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Text Box 6"/>
            <p:cNvSpPr/>
            <p:nvPr/>
          </p:nvSpPr>
          <p:spPr>
            <a:xfrm>
              <a:off x="1191240" y="282384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583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4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5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Text Box 10"/>
          <p:cNvSpPr/>
          <p:nvPr/>
        </p:nvSpPr>
        <p:spPr>
          <a:xfrm>
            <a:off x="5927760" y="371304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393E-008 L 0.08611 -0.00555 E">
                                      <p:cBhvr>
                                        <p:cTn id="562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 -1.11111E-006 E">
                                      <p:cBhvr>
                                        <p:cTn id="564" dur="2000" fill="hold"/>
                                        <p:tgtEl>
                                          <p:spTgt spid="1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11"/>
          <p:cNvSpPr/>
          <p:nvPr/>
        </p:nvSpPr>
        <p:spPr>
          <a:xfrm>
            <a:off x="152280" y="1523880"/>
            <a:ext cx="861084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9" name="Object 4"/>
          <p:cNvGraphicFramePr/>
          <p:nvPr/>
        </p:nvGraphicFramePr>
        <p:xfrm>
          <a:off x="685800" y="1676520"/>
          <a:ext cx="47926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7926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1" name="Text Box 5"/>
          <p:cNvSpPr/>
          <p:nvPr/>
        </p:nvSpPr>
        <p:spPr>
          <a:xfrm>
            <a:off x="1900080" y="4046400"/>
            <a:ext cx="38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2" name="Object 8"/>
          <p:cNvGraphicFramePr/>
          <p:nvPr/>
        </p:nvGraphicFramePr>
        <p:xfrm>
          <a:off x="3886200" y="2438280"/>
          <a:ext cx="3429000" cy="345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438280"/>
                    <a:ext cx="342900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4" name="Chord 13"/>
          <p:cNvSpPr/>
          <p:nvPr/>
        </p:nvSpPr>
        <p:spPr>
          <a:xfrm>
            <a:off x="3886200" y="2590920"/>
            <a:ext cx="2362320" cy="3124080"/>
          </a:xfrm>
          <a:custGeom>
            <a:avLst/>
            <a:gdLst/>
            <a:ahLst/>
            <a:rect l="l" t="t" r="r" b="b"/>
            <a:pathLst>
              <a:path w="2362200" h="3124200">
                <a:moveTo>
                  <a:pt x="1013060" y="3108309"/>
                </a:moveTo>
                <a:cubicBezTo>
                  <a:pt x="430824" y="2997624"/>
                  <a:pt x="-1088" y="2337172"/>
                  <a:pt x="2" y="1559206"/>
                </a:cubicBezTo>
                <a:cubicBezTo>
                  <a:pt x="1094" y="779624"/>
                  <a:pt x="436606" y="120446"/>
                  <a:pt x="1020578" y="14494"/>
                </a:cubicBezTo>
                <a:lnTo>
                  <a:pt x="1013060" y="310830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Chord 14"/>
          <p:cNvSpPr/>
          <p:nvPr/>
        </p:nvSpPr>
        <p:spPr>
          <a:xfrm flipH="1">
            <a:off x="4038480" y="2514600"/>
            <a:ext cx="1330560" cy="3200400"/>
          </a:xfrm>
          <a:custGeom>
            <a:avLst/>
            <a:gdLst/>
            <a:ahLst/>
            <a:rect l="l" t="t" r="r" b="b"/>
            <a:pathLst>
              <a:path w="1330325" h="3200400">
                <a:moveTo>
                  <a:pt x="496911" y="3148361"/>
                </a:moveTo>
                <a:cubicBezTo>
                  <a:pt x="203947" y="2964093"/>
                  <a:pt x="-308" y="2327050"/>
                  <a:pt x="0" y="1598570"/>
                </a:cubicBezTo>
                <a:cubicBezTo>
                  <a:pt x="311" y="864633"/>
                  <a:pt x="208120" y="225295"/>
                  <a:pt x="504124" y="47606"/>
                </a:cubicBezTo>
                <a:cubicBezTo>
                  <a:pt x="501720" y="1081191"/>
                  <a:pt x="499315" y="2114776"/>
                  <a:pt x="496911" y="3148361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Text Box 6"/>
          <p:cNvSpPr/>
          <p:nvPr/>
        </p:nvSpPr>
        <p:spPr>
          <a:xfrm>
            <a:off x="304920" y="380880"/>
            <a:ext cx="8610480" cy="6209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7" name="Object 2"/>
          <p:cNvGraphicFramePr/>
          <p:nvPr/>
        </p:nvGraphicFramePr>
        <p:xfrm>
          <a:off x="1866960" y="1565280"/>
          <a:ext cx="540864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565280"/>
                    <a:ext cx="540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Text Box 4"/>
          <p:cNvSpPr/>
          <p:nvPr/>
        </p:nvSpPr>
        <p:spPr>
          <a:xfrm>
            <a:off x="1370160" y="304812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B (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1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υ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2894040" y="1828800"/>
            <a:ext cx="4038480" cy="642600"/>
          </a:xfrm>
          <a:prstGeom prst="rect">
            <a:avLst/>
          </a:prstGeom>
          <a:solidFill>
            <a:srgbClr val="ffffff"/>
          </a:solidFill>
          <a:ln w="66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B)  = 0.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 occurs 6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 and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7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of “A” or “B”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ccur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mutually exclusive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both A and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es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statistically independent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Group 3"/>
          <p:cNvGrpSpPr/>
          <p:nvPr/>
        </p:nvGrpSpPr>
        <p:grpSpPr>
          <a:xfrm>
            <a:off x="304920" y="1676520"/>
            <a:ext cx="5409720" cy="4876200"/>
            <a:chOff x="304920" y="1676520"/>
            <a:chExt cx="5409720" cy="4876200"/>
          </a:xfrm>
        </p:grpSpPr>
        <p:graphicFrame>
          <p:nvGraphicFramePr>
            <p:cNvPr id="1605" name="Object 4"/>
            <p:cNvGraphicFramePr/>
            <p:nvPr/>
          </p:nvGraphicFramePr>
          <p:xfrm>
            <a:off x="304920" y="167652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7652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7" name="Text Box 5"/>
            <p:cNvSpPr/>
            <p:nvPr/>
          </p:nvSpPr>
          <p:spPr>
            <a:xfrm>
              <a:off x="1483200" y="416232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Text Box 6"/>
            <p:cNvSpPr/>
            <p:nvPr/>
          </p:nvSpPr>
          <p:spPr>
            <a:xfrm>
              <a:off x="1191240" y="282384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610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1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2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 ?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+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616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8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9" name="Object 4"/>
          <p:cNvGraphicFramePr/>
          <p:nvPr/>
        </p:nvGraphicFramePr>
        <p:xfrm>
          <a:off x="304920" y="167652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1" name="Text Box 6"/>
          <p:cNvSpPr/>
          <p:nvPr/>
        </p:nvSpPr>
        <p:spPr>
          <a:xfrm>
            <a:off x="1190520" y="282420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625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7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28" name="Object 4"/>
          <p:cNvGraphicFramePr/>
          <p:nvPr/>
        </p:nvGraphicFramePr>
        <p:xfrm>
          <a:off x="304920" y="167652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Text Box 6"/>
          <p:cNvSpPr/>
          <p:nvPr/>
        </p:nvSpPr>
        <p:spPr>
          <a:xfrm>
            <a:off x="1190520" y="282420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INTERSECT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11"/>
          <p:cNvGrpSpPr/>
          <p:nvPr/>
        </p:nvGrpSpPr>
        <p:grpSpPr>
          <a:xfrm>
            <a:off x="533520" y="2057400"/>
            <a:ext cx="4530240" cy="3962160"/>
            <a:chOff x="533520" y="2057400"/>
            <a:chExt cx="4530240" cy="3962160"/>
          </a:xfrm>
        </p:grpSpPr>
        <p:graphicFrame>
          <p:nvGraphicFramePr>
            <p:cNvPr id="1322" name="Object 7"/>
            <p:cNvGraphicFramePr/>
            <p:nvPr/>
          </p:nvGraphicFramePr>
          <p:xfrm>
            <a:off x="533520" y="2057400"/>
            <a:ext cx="3956400" cy="3962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057400"/>
                      <a:ext cx="3956400" cy="39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4" name="Text Box 3"/>
            <p:cNvSpPr/>
            <p:nvPr/>
          </p:nvSpPr>
          <p:spPr>
            <a:xfrm>
              <a:off x="1520280" y="4077360"/>
              <a:ext cx="35434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5"/>
            <p:cNvSpPr/>
            <p:nvPr/>
          </p:nvSpPr>
          <p:spPr>
            <a:xfrm>
              <a:off x="1275480" y="2989440"/>
              <a:ext cx="31798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Takes Cal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(C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12"/>
          <p:cNvGrpSpPr/>
          <p:nvPr/>
        </p:nvGrpSpPr>
        <p:grpSpPr>
          <a:xfrm>
            <a:off x="4978440" y="1905120"/>
            <a:ext cx="4622400" cy="3961800"/>
            <a:chOff x="4978440" y="1905120"/>
            <a:chExt cx="4622400" cy="3961800"/>
          </a:xfrm>
        </p:grpSpPr>
        <p:graphicFrame>
          <p:nvGraphicFramePr>
            <p:cNvPr id="1327" name="Object 8"/>
            <p:cNvGraphicFramePr/>
            <p:nvPr/>
          </p:nvGraphicFramePr>
          <p:xfrm>
            <a:off x="4978440" y="1905120"/>
            <a:ext cx="3954960" cy="396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78440" y="1905120"/>
                      <a:ext cx="3954960" cy="39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9" name="Text Box 4"/>
            <p:cNvSpPr/>
            <p:nvPr/>
          </p:nvSpPr>
          <p:spPr>
            <a:xfrm>
              <a:off x="5795640" y="2697480"/>
              <a:ext cx="3044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Takes Phys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(Ph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Text Box 6"/>
            <p:cNvSpPr/>
            <p:nvPr/>
          </p:nvSpPr>
          <p:spPr>
            <a:xfrm>
              <a:off x="5925960" y="3965040"/>
              <a:ext cx="3674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393E-008 L 0.08611 -0.00555 E">
                                      <p:cBhvr>
                                        <p:cTn id="96" dur="20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57836E-006 L -0.08889 3.57836E-006 E">
                                      <p:cBhvr>
                                        <p:cTn id="98" dur="2000" fill="hold"/>
                                        <p:tgtEl>
                                          <p:spTgt spid="1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34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6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7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9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43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4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5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46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52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4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55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7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0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61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3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4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6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 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70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2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3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5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 0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79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1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2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4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 0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.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7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88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9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0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1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3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21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0</a:t>
            </a:r>
            <a:br>
              <a:rPr sz="2400"/>
            </a:b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400"/>
            </a:b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.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Group 3"/>
          <p:cNvGrpSpPr/>
          <p:nvPr/>
        </p:nvGrpSpPr>
        <p:grpSpPr>
          <a:xfrm>
            <a:off x="304920" y="1951200"/>
            <a:ext cx="5409720" cy="4876200"/>
            <a:chOff x="304920" y="1951200"/>
            <a:chExt cx="5409720" cy="4876200"/>
          </a:xfrm>
        </p:grpSpPr>
        <p:graphicFrame>
          <p:nvGraphicFramePr>
            <p:cNvPr id="1697" name="Object 4"/>
            <p:cNvGraphicFramePr/>
            <p:nvPr/>
          </p:nvGraphicFramePr>
          <p:xfrm>
            <a:off x="304920" y="195120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5120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9" name="Text Box 5"/>
            <p:cNvSpPr/>
            <p:nvPr/>
          </p:nvSpPr>
          <p:spPr>
            <a:xfrm>
              <a:off x="1483200" y="443700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Text Box 6"/>
            <p:cNvSpPr/>
            <p:nvPr/>
          </p:nvSpPr>
          <p:spPr>
            <a:xfrm>
              <a:off x="1191240" y="309852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702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4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2361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- 0</a:t>
            </a:r>
            <a:br>
              <a:rPr sz="2400"/>
            </a:b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400"/>
            </a:b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.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5"/>
          <p:cNvSpPr/>
          <p:nvPr/>
        </p:nvSpPr>
        <p:spPr>
          <a:xfrm>
            <a:off x="3048120" y="3886200"/>
            <a:ext cx="4038480" cy="5508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B)  = 0.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8"/>
          <p:cNvSpPr/>
          <p:nvPr/>
        </p:nvSpPr>
        <p:spPr>
          <a:xfrm>
            <a:off x="990720" y="4857840"/>
            <a:ext cx="7467480" cy="18612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 = P(A) + P(B) – 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9" name="Group 3"/>
          <p:cNvGrpSpPr/>
          <p:nvPr/>
        </p:nvGrpSpPr>
        <p:grpSpPr>
          <a:xfrm>
            <a:off x="304920" y="1951200"/>
            <a:ext cx="5409720" cy="4876200"/>
            <a:chOff x="304920" y="1951200"/>
            <a:chExt cx="5409720" cy="4876200"/>
          </a:xfrm>
        </p:grpSpPr>
        <p:graphicFrame>
          <p:nvGraphicFramePr>
            <p:cNvPr id="1710" name="Object 4"/>
            <p:cNvGraphicFramePr/>
            <p:nvPr/>
          </p:nvGraphicFramePr>
          <p:xfrm>
            <a:off x="304920" y="195120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5120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2" name="Text Box 5"/>
            <p:cNvSpPr/>
            <p:nvPr/>
          </p:nvSpPr>
          <p:spPr>
            <a:xfrm>
              <a:off x="1483200" y="443700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Text Box 6"/>
            <p:cNvSpPr/>
            <p:nvPr/>
          </p:nvSpPr>
          <p:spPr>
            <a:xfrm>
              <a:off x="1191240" y="309852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715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7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</a:t>
            </a:r>
            <a:br>
              <a:rPr sz="2400"/>
            </a:b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B) = 0.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5"/>
          <p:cNvSpPr/>
          <p:nvPr/>
        </p:nvSpPr>
        <p:spPr>
          <a:xfrm>
            <a:off x="3048120" y="3886200"/>
            <a:ext cx="4038480" cy="5508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B)  = 0.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8"/>
          <p:cNvSpPr/>
          <p:nvPr/>
        </p:nvSpPr>
        <p:spPr>
          <a:xfrm>
            <a:off x="990720" y="4857840"/>
            <a:ext cx="7467480" cy="18612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 = P(A) + P(B) – 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393E-008 L 0.08611 -0.00555 E">
                                      <p:cBhvr>
                                        <p:cTn id="594" dur="2000" fill="hold"/>
                                        <p:tgtEl>
                                          <p:spTgt spid="1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 -1.11111E-006 E">
                                      <p:cBhvr>
                                        <p:cTn id="596" dur="2000" fill="hold"/>
                                        <p:tgtEl>
                                          <p:spTgt spid="1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2"/>
          <p:cNvSpPr/>
          <p:nvPr/>
        </p:nvSpPr>
        <p:spPr>
          <a:xfrm>
            <a:off x="533520" y="187488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2" name="Object 3"/>
          <p:cNvGraphicFramePr/>
          <p:nvPr/>
        </p:nvGraphicFramePr>
        <p:xfrm>
          <a:off x="1866960" y="1992240"/>
          <a:ext cx="540864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992240"/>
                    <a:ext cx="540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4" name="Text Box 4"/>
          <p:cNvSpPr/>
          <p:nvPr/>
        </p:nvSpPr>
        <p:spPr>
          <a:xfrm>
            <a:off x="3200400" y="3627360"/>
            <a:ext cx="403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  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5"/>
          <p:cNvSpPr/>
          <p:nvPr/>
        </p:nvSpPr>
        <p:spPr>
          <a:xfrm>
            <a:off x="0" y="609480"/>
            <a:ext cx="91440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(d) What percentage of the time doe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3"/>
          <p:cNvSpPr/>
          <p:nvPr/>
        </p:nvSpPr>
        <p:spPr>
          <a:xfrm>
            <a:off x="685800" y="175248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2" name="Object 8"/>
          <p:cNvGraphicFramePr/>
          <p:nvPr/>
        </p:nvGraphicFramePr>
        <p:xfrm>
          <a:off x="814320" y="1905120"/>
          <a:ext cx="7186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905120"/>
                    <a:ext cx="7186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4" name="Text Box 4"/>
          <p:cNvSpPr/>
          <p:nvPr/>
        </p:nvSpPr>
        <p:spPr>
          <a:xfrm>
            <a:off x="5181480" y="2895480"/>
            <a:ext cx="2743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Comic Sans MS"/>
              </a:rPr>
              <a:t>Takes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Comic Sans MS"/>
              </a:rPr>
              <a:t>(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1523880" y="304812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Takes Ca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INTERSECT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Text Box 10"/>
          <p:cNvSpPr/>
          <p:nvPr/>
        </p:nvSpPr>
        <p:spPr>
          <a:xfrm>
            <a:off x="533520" y="187488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7" name="Object 8"/>
          <p:cNvGraphicFramePr/>
          <p:nvPr/>
        </p:nvGraphicFramePr>
        <p:xfrm>
          <a:off x="1866960" y="1565280"/>
          <a:ext cx="540864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565280"/>
                    <a:ext cx="540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9" name="Text Box 5"/>
          <p:cNvSpPr/>
          <p:nvPr/>
        </p:nvSpPr>
        <p:spPr>
          <a:xfrm>
            <a:off x="3200400" y="3627360"/>
            <a:ext cx="403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  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6"/>
          <p:cNvSpPr/>
          <p:nvPr/>
        </p:nvSpPr>
        <p:spPr>
          <a:xfrm>
            <a:off x="0" y="655560"/>
            <a:ext cx="91440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(d) What percentage of the time does </a:t>
            </a: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11"/>
          <p:cNvSpPr/>
          <p:nvPr/>
        </p:nvSpPr>
        <p:spPr>
          <a:xfrm>
            <a:off x="1905120" y="4694400"/>
            <a:ext cx="6400800" cy="2033640"/>
          </a:xfrm>
          <a:prstGeom prst="rect">
            <a:avLst/>
          </a:prstGeom>
          <a:solidFill>
            <a:srgbClr val="ccffff"/>
          </a:solidFill>
          <a:ln w="66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Nor”  =  1- “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Neither A nor B)    =   1 – P(A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=   1 –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=   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6" dur="3000" fill="hold"/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 3 cones in a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cone, the probability that he collects it is 0.2, that he just knocks it over is 0.55, and that he misses it altogether is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Draw a probability tree for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llects 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Draw a probability tree for this situ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f he collects one he will stop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Draw a probability tree for this situ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Draw a probability tree for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probability th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knocks over all 3 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misses the first two cones, but collects the th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misses the first two cones, but collects the th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knocks over exactly two 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collects one of the cones (call th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</a:t>
            </a:r>
            <a:r>
              <a:rPr b="0" lang="en-NZ" sz="1400" spc="-1" strike="noStrike">
                <a:solidFill>
                  <a:srgbClr val="333399"/>
                </a:solidFill>
                <a:latin typeface="Comic Sans MS"/>
              </a:rPr>
              <a:t>keep try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collects one of the cones (call th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Giv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examples of pairs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v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are mutually exclusive in this situation (think in terms of results – number of cones knocked over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g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other equally bright student tries to do the same thing on the other side of the van.  He also has 3 cones in a row.  For each cone, the probability that he collects it is 0.2063.  He will also stop if he collects one.  If the probability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oth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students collecting one of the cones is approximately 0.2440, are events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(student A collects one) and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(student B collects one) statistically independent?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e) he collects one of the cones (call th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f) Describe two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v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are mutually exclusive in this situation (think in terms of results – number of cones knocked over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g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Another equally bright student tries to do the same thing on the other side of the van.  He also ha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cones in a row.  For each cone, the probability that 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it 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063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.  He will als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op if he collects one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.  If the probability of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oth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students collecting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one of the cones is approx.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440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re events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(student A collects on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and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(student B collects one) statistically independent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4-08T22:51:39Z</dcterms:modified>
  <cp:revision>619</cp:revision>
  <dc:subject>Year 13 Statistics &amp; Modelling</dc:subject>
  <dc:title>Probability - basic princi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